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3B12-CE13-42E0-A9BE-3CC186B8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BFC-E5D6-443D-AE40-1B9AE346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32B4-3717-44AD-88FF-4DF0B651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A1C-98CD-4E40-9914-77E46D9F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065-4CAF-4BA4-BE70-66F4C08B2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6218-265F-47A7-824E-433FE2F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4AA3-42B7-4E65-AF42-DB8FB6863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106A-1D6F-477B-8B68-97AEB0FB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4240-0456-4031-A3A2-224D6D81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8EEF-02EA-45E2-8492-9C5FB752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7351-D555-4E33-A13F-40EC6ECC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A49-EF72-4CF9-9448-8314A0F5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5614-E6C7-4A68-AF3C-F92E21BEA6E1}" type="slidenum">
              <a:rPr b="0" lang="it-IT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VfChLAADS8" TargetMode="External"/><Relationship Id="rId2" Type="http://schemas.openxmlformats.org/officeDocument/2006/relationships/hyperlink" Target="http://commons.wikimedia.org/wiki/User:Poliocretes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maranatha.it/Bibbia/2-LibriStorici/20-1MaccabeiPage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t.wikipedia.org/wiki/Lingua_ebraica" TargetMode="External"/><Relationship Id="rId2" Type="http://schemas.openxmlformats.org/officeDocument/2006/relationships/hyperlink" Target="http://it.wikipedia.org/wiki/Festivit&#224;_ebraiche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20600" y="4435200"/>
            <a:ext cx="38876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Arial"/>
              </a:rPr>
              <a:t>Chanukka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65280" y="5300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cuola Belli Ro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.s. 2013-2013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Prof. F. Gian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Picture 9" descr="File:PikiWiki Israel 146 Hanukka חנוכה.Jpg"/>
          <p:cNvPicPr/>
          <p:nvPr/>
        </p:nvPicPr>
        <p:blipFill>
          <a:blip r:embed="rId1"/>
          <a:stretch/>
        </p:blipFill>
        <p:spPr>
          <a:xfrm>
            <a:off x="1908000" y="549360"/>
            <a:ext cx="57150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m2.paperblog.com/i/40/401449/hanukkah-T-LGCL5y.jpeg"/>
          <p:cNvPicPr/>
          <p:nvPr/>
        </p:nvPicPr>
        <p:blipFill>
          <a:blip r:embed="rId1"/>
          <a:stretch/>
        </p:blipFill>
        <p:spPr>
          <a:xfrm>
            <a:off x="3059280" y="2205000"/>
            <a:ext cx="323820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ttangolo 1"/>
          <p:cNvSpPr/>
          <p:nvPr/>
        </p:nvSpPr>
        <p:spPr>
          <a:xfrm>
            <a:off x="2286000" y="116676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4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Nella stessa stagione e nello stesso giorno in cui l'avevano profanato i pagani, fu riconsacrato fra canti e suoni di cetre e arpe e cembali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5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utto il popolo si prostrò con la faccia a terra e adorarono e benedissero il Cielo che era stato loro propizio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6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elebrarono la dedicazione dell'altare per otto giorni e offrirono olocausti con gioia e sacrificarono vittime di ringraziamento e di lode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7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i ornarono la facciata del tempio con corone d'oro e piccoli scudi. Rifecero i portoni e le camere e vi misero le porte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8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i fu gioia molto grande in mezzo al popolo, perché era stata cancellata la vergogna dei pagani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9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cdn.gingerandtomato.com/wp-content/uploads/2011/12/117480316.jpg"/>
          <p:cNvPicPr/>
          <p:nvPr/>
        </p:nvPicPr>
        <p:blipFill>
          <a:blip r:embed="rId1"/>
          <a:stretch/>
        </p:blipFill>
        <p:spPr>
          <a:xfrm>
            <a:off x="2268360" y="2421000"/>
            <a:ext cx="48294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Arial"/>
              </a:rPr>
              <a:t>Chanukka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youtube.com/watch?v=3VfChLAADS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Fotogrefia di Oren Roze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3"/>
          <a:stretch/>
        </p:blipFill>
        <p:spPr>
          <a:xfrm>
            <a:off x="5148360" y="2405160"/>
            <a:ext cx="295272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ADESSO IN PREPARAZIONE AL LABORATORIO PRESSO LA CASA DEL PARCO DOVRAI REALIZZARE UN DISEGNO COLORATO CON LE MATITE CON TEMI DI CHANNUKKA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e3ebf1"/>
                </a:solidFill>
                <a:latin typeface="Arial"/>
              </a:rPr>
              <a:t>Sitografia al 12/11/2013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http://www.maranatha.it/Bibbia/2-LibriStorici/20-1MaccabeiPage.htm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http://www.romaebraica.it/chanukah/ 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http://commons.wikimedia.org/wiki/File:Jerusalem_Hannukah_021210.jpg?uselang=i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Immagine 5" descr="http://1.bp.blogspot.com/-QcfHOJaZcKo/TuMAbZmmzBI/AAAAAAAAAMs/0sW8LcEN2Dc/s400/FeltMenorah.jpg"/>
          <p:cNvPicPr/>
          <p:nvPr/>
        </p:nvPicPr>
        <p:blipFill>
          <a:blip r:embed="rId2"/>
          <a:stretch/>
        </p:blipFill>
        <p:spPr>
          <a:xfrm>
            <a:off x="6372360" y="4941720"/>
            <a:ext cx="2508120" cy="16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Arial"/>
              </a:rPr>
              <a:t>Chanukka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hanukkah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 o 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Chanukkà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 (in </a:t>
            </a:r>
            <a:r>
              <a:rPr b="0" lang="vi-VN" sz="32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ebraico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חנוכה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o </a:t>
            </a:r>
            <a:r>
              <a:rPr b="1" lang="he-IL" sz="3200" spc="-1" strike="noStrike">
                <a:solidFill>
                  <a:srgbClr val="ffffff"/>
                </a:solidFill>
                <a:latin typeface="Arial"/>
              </a:rPr>
              <a:t>חֲנֻכָּה</a:t>
            </a:r>
            <a:r>
              <a:rPr b="0" lang="he-IL" sz="3200" spc="-1" strike="noStrike">
                <a:solidFill>
                  <a:srgbClr val="ffffff"/>
                </a:solidFill>
                <a:latin typeface="Arial"/>
              </a:rPr>
              <a:t>, 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ḥănukkāh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) è una </a:t>
            </a:r>
            <a:r>
              <a:rPr b="0" lang="vi-VN" sz="32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festività ebraica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, conosciuta anche con il nome di 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Festa delle Luci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 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vi-VN" sz="3200" spc="-1" strike="noStrike">
                <a:solidFill>
                  <a:srgbClr val="ffffff"/>
                </a:solidFill>
                <a:latin typeface="Arial"/>
              </a:rPr>
              <a:t>Festa dei lumi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Immagine 3" descr="http://1.bp.blogspot.com/-QcfHOJaZcKo/TuMAbZmmzBI/AAAAAAAAAMs/0sW8LcEN2Dc/s400/FeltMenorah.jpg"/>
          <p:cNvPicPr/>
          <p:nvPr/>
        </p:nvPicPr>
        <p:blipFill>
          <a:blip r:embed="rId3"/>
          <a:stretch/>
        </p:blipFill>
        <p:spPr>
          <a:xfrm>
            <a:off x="2268360" y="3789360"/>
            <a:ext cx="380700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Arial"/>
              </a:rPr>
              <a:t>Chanukka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Festa della dedicazi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Dura otto giorni, si celebra a cavallo dei mesi di kislev e tevet, per ricordare la nuova dedicazione dell’altare e la riconsacrazione del tempo da parte dei Maccabei nel 164 a.C. in seguito alla dissacrazione operata da Antioco Epif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 La prima sera, oltre allo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hammash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servitore, così chiamato perché ci si può servire della sua luce) si accende a destra un lume, la seconda sera due… l’ottava sera otto lumi. Ogni sera, dopo lo Shammash,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i accende per primo il lume che si aggiunge quella s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E’ proibito servirsi della luce del lumi di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Chanukah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 La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hanukki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 va accesa vicino alla porta o alla finestra in modo che tutti possano vederla e ricordarsi del miracolo di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Chanukah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Il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25 di Kislev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 ha inizio la festa di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hanukah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o 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Hanukk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, o </a:t>
            </a:r>
            <a:r>
              <a:rPr b="0" i="1" lang="it-IT" sz="3200" spc="-1" strike="noStrike">
                <a:solidFill>
                  <a:srgbClr val="ffffff"/>
                </a:solidFill>
                <a:latin typeface="Arial"/>
              </a:rPr>
              <a:t>Chanuccà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, ecc.) che dura 8 giorni. La festa fu stabilita per celebrare la vittoria dei 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Maccabei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 sugli ellenisti (165 e.v.) e</a:t>
            </a: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il miracolo dell’ampolla d’olio da loro trovata nel Tempio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 sconsacrato, che pur essendo sufficiente per un solo giorno, durò per otto giorn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e3ebf1"/>
                </a:solidFill>
                <a:latin typeface="Arial"/>
              </a:rPr>
              <a:t>Chanukkah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(1 Mac 4, 36-5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urificazione e dedicazione del temp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iuda intanto e i suoi fratelli dissero: «Ecco sono stati sconfitti i nostri nemici: andiamo a purificare il santuario e a riconsacrarlo». 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[37]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sì si radunò tutto l'esercito e salirono al monte Sion. 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[38]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rovarono il santuario desolato, l'altare profanato, le porte arse e cresciute le erbe nei cortili come in un luogo selvatico o montuoso, e gli appartamenti sacri in rov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ttangolo 1"/>
          <p:cNvSpPr/>
          <p:nvPr/>
        </p:nvSpPr>
        <p:spPr>
          <a:xfrm>
            <a:off x="755640" y="336600"/>
            <a:ext cx="784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39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Allora si stracciarono le vesti, fecero grande pianto, si cosparsero di cenere,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0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prostrarono con la faccia a terra, fecero dare i segnali con le trombe e alzarono grida al Cielo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1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Giuda ordinò ai suoi uomini di tenere impegnati quelli dell'Acra, finché non avesse purificato il santuario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2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i scelse sacerdoti incensurati, osservanti della legge,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3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 quali purificarono il santuario e portarono le pietre profanate in luogo immondo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4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ennero consiglio per decidere che cosa fare circa l'altare degli olocausti, che era stato profanato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5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Vennero nella felice determinazione di demolirlo, perché non fosse loro di vergogna, essendo stato profanato dai pagani. Demolirono dunque l'altare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6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riposero le pietre sul monte del tempio in luogo conveniente finché fosse comparso un profeta a decidere di es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http://m2.paperblog.com/i/40/401449/hanukkah-L-kLicK3.jpeg"/>
          <p:cNvPicPr/>
          <p:nvPr/>
        </p:nvPicPr>
        <p:blipFill>
          <a:blip r:embed="rId1"/>
          <a:stretch/>
        </p:blipFill>
        <p:spPr>
          <a:xfrm>
            <a:off x="993600" y="4149720"/>
            <a:ext cx="1705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ttangolo 1"/>
          <p:cNvSpPr/>
          <p:nvPr/>
        </p:nvSpPr>
        <p:spPr>
          <a:xfrm>
            <a:off x="2286000" y="89064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7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i presero pietre grezze secondo la legge ed edificarono un altare nuovo come quello di prima;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8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staurarono il santuario e consacrarono l'interno del tempio e i cortili;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49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ifecero gli arredi sacri e collocarono il candelabro e l'altare degli incensi e la tavola nel tempio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0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i bruciarono incenso sull'altare e accesero sul candelabro le lampade che splendettero nel tempio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1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Posero ancora i pani sulla tavola e stesero le cortine. Così portarono a termine le opere intraprese.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2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 radunarono il mattino del venticinque del nono mese, cioè il mese di Casleu, nell'anno centoquarantotto, 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[53]</a:t>
            </a: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e offrirono il sacrificio secondo la legge sull'altare degli olocausti che avevano rinnova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10:43:00Z</dcterms:created>
  <dc:creator>Francesca Giani</dc:creator>
  <dc:description/>
  <dc:language>en-US</dc:language>
  <cp:lastModifiedBy>Lenovo</cp:lastModifiedBy>
  <dcterms:modified xsi:type="dcterms:W3CDTF">2013-11-12T14:03:07Z</dcterms:modified>
  <cp:revision>31</cp:revision>
  <dc:subject/>
  <dc:title>Diapositiva 1</dc:title>
</cp:coreProperties>
</file>